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726-9F60-4F75-9E4F-37426F3F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E00-6247-4434-BDC3-30C1550D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F02-0B63-4429-A66E-1A1897F0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677-EC32-4A56-BA9E-431F75F0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349-F166-4FEE-A46E-F041D97B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9EF-0EC2-4DA9-9B7F-7FD0D44F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41B-3673-43D8-8FC5-AF60F008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6DA-081C-4117-9039-238448B5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1D9-FA0B-401F-B270-1B7BD781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725-F1DF-4B76-8950-0B5F0E72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BBC-CCEA-485F-B5B9-350229A8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3B5-81CE-4A4F-8693-29F85696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EC8E-4871-40B2-845A-584F4B51F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ormal or Informal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That is the ques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s://encrypted-tbn1.google.com/images?q=tbn:ANd9GcS0Qvem6dCpztZ9DSKZJNFcnpUofApvkAp_E2zKj-auFnGQP0xf"/>
          <p:cNvPicPr/>
          <p:nvPr/>
        </p:nvPicPr>
        <p:blipFill>
          <a:blip r:embed="rId1"/>
          <a:stretch/>
        </p:blipFill>
        <p:spPr>
          <a:xfrm>
            <a:off x="2819520" y="2514600"/>
            <a:ext cx="35049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s://encrypted-tbn2.google.com/images?q=tbn:ANd9GcQWkUIvVJBMVCm-RgDWNqW-6VUnxSFZrdphsVuCaiT_sMZ_lJMGlw"/>
          <p:cNvPicPr/>
          <p:nvPr/>
        </p:nvPicPr>
        <p:blipFill>
          <a:blip r:embed="rId1"/>
          <a:stretch/>
        </p:blipFill>
        <p:spPr>
          <a:xfrm>
            <a:off x="2438280" y="2362320"/>
            <a:ext cx="44197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s://encrypted-tbn3.google.com/images?q=tbn:ANd9GcRhwAZ80rf_PWUl9Jg7NOTAbcLzEKCaNgCxL9qfbd2H4XDDotpzAQ"/>
          <p:cNvPicPr/>
          <p:nvPr/>
        </p:nvPicPr>
        <p:blipFill>
          <a:blip r:embed="rId1"/>
          <a:stretch/>
        </p:blipFill>
        <p:spPr>
          <a:xfrm>
            <a:off x="2895480" y="2514600"/>
            <a:ext cx="3048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encrypted-tbn1.google.com/images?q=tbn:ANd9GcTZdATMtJEdd-YzvPyOGt5bwckkY5bxOSHHlt8dc10lYh0jFiyVhA"/>
          <p:cNvPicPr/>
          <p:nvPr/>
        </p:nvPicPr>
        <p:blipFill>
          <a:blip r:embed="rId1"/>
          <a:stretch/>
        </p:blipFill>
        <p:spPr>
          <a:xfrm>
            <a:off x="2895480" y="2666880"/>
            <a:ext cx="28195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9T19:12:20Z</dcterms:created>
  <dc:creator>Robbie</dc:creator>
  <dc:description/>
  <dc:language>en-US</dc:language>
  <cp:lastModifiedBy>Robbie</cp:lastModifiedBy>
  <dcterms:modified xsi:type="dcterms:W3CDTF">2012-08-19T19:12:47Z</dcterms:modified>
  <cp:revision>1</cp:revision>
  <dc:subject/>
  <dc:title>Formal or Informal?  </dc:title>
</cp:coreProperties>
</file>